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F723-0794-429E-8AF6-A8C6210990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8B95-83A0-46C3-880D-8C61FDED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8797-EC0F-4D5E-802E-0B0BA1D4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A693-F2F8-441B-8A92-9F6A0B1A67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5D6C-67E9-4EE0-97F5-EBB09BA2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E680-2F88-4F42-9260-5C0A5857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BE02-C809-4738-BC36-E3E7CDED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E10F-1277-43CB-AB97-CD9DA749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6281-217F-411C-86D6-6CEAF294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4263-6347-43E9-A025-F49F6471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09D0-885D-473A-A611-7B2FD59E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0E88-1AF5-402C-ADA7-3C5777EF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3480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8B4E-C3F7-4C27-A72D-D07D82559822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May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20560" y="2080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 R A F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7524360" y="142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7451280" y="115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8748360" y="43164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675280" y="404640"/>
            <a:ext cx="360360" cy="333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Business Operations Support 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34936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628640"/>
            <a:ext cx="2160360" cy="540000"/>
          </a:xfrm>
          <a:prstGeom prst="rect">
            <a:avLst/>
          </a:prstGeom>
          <a:solidFill>
            <a:srgbClr val="d1c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usiness Operation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	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g J Liu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2852640"/>
            <a:ext cx="115092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2852640"/>
            <a:ext cx="115272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rategy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285264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85264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Contr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28000" y="285120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DA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ontracts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86FE-C05A-4FD2-8EF6-94DB905E270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Brandl Nicole</dc:creator>
  <dc:description/>
  <dc:language>en-US</dc:language>
  <cp:lastModifiedBy> </cp:lastModifiedBy>
  <dcterms:modified xsi:type="dcterms:W3CDTF">2006-05-15T09:37:50Z</dcterms:modified>
  <cp:revision>62</cp:revision>
  <dc:subject/>
  <dc:title>PHE R&amp;D</dc:title>
</cp:coreProperties>
</file>